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meepmeep.wav" ContentType="audio/x-wav"/>
  <Override PartName="/ppt/media/image1.gif" ContentType="image/gif"/>
  <Override PartName="/ppt/media/highchime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697-EBEB-405F-8CB7-E0840D82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DD4-DE0A-435B-AA55-0085A3D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137-05C1-4E2F-9C87-0C14091B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D8B-C88B-448B-BF58-7DFEE641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1E8-6232-4A19-A464-0AC7F5E8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060-3477-4C01-A85D-362BCFD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A25-F97E-4717-B5A7-87B335AB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E0A-DACE-4121-9CE5-3A8F21C2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C6E-2561-46CB-904C-C1D4CAF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7C5-9FDE-4197-BC0D-98881F8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5D4-C2C1-47D9-B900-BEC6228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4AA-ADE3-4552-9A17-4393FCE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83D-7E97-4E5F-8F7F-40BE9E13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hiphorn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calculator to evaluate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427040"/>
                <a:ext cx="9144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60360" y="2075040"/>
                <a:ext cx="2104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17760" y="2063880"/>
                <a:ext cx="43164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2840" y="3349800"/>
                <a:ext cx="928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1284120" y="33670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41400" y="333072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668680" y="337356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55840" y="3324240"/>
                <a:ext cx="1187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397400" y="33796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76640" y="333684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7292880" y="339732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57840" y="33861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15120" y="334980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71800" y="4413240"/>
                <a:ext cx="16970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9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calculator to evaluate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20840" y="1174680"/>
                <a:ext cx="6883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77840" y="2949480"/>
                <a:ext cx="13683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81120" y="3489480"/>
                <a:ext cx="1316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52320" y="5226120"/>
                <a:ext cx="1238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893960" y="5268960"/>
            <a:ext cx="517320" cy="673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51240" y="5232240"/>
                <a:ext cx="876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278160" y="527544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56040" y="5251320"/>
                <a:ext cx="77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754520" y="52545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78640" y="5127480"/>
                <a:ext cx="11872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25640" y="5394240"/>
                <a:ext cx="4348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76200" y="5581800"/>
                <a:ext cx="2036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52600" y="5591160"/>
                <a:ext cx="2656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75200" y="5608800"/>
                <a:ext cx="1582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anya wants her fence to be 6 ft. wide and 10 ft. long. How much fencing does she ne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06760" y="3521160"/>
                <a:ext cx="116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5240" y="4559400"/>
                <a:ext cx="137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524640" y="5614920"/>
                <a:ext cx="8478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4560" y="5581800"/>
                <a:ext cx="1640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89240" y="5591160"/>
                <a:ext cx="2260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1840" y="5594400"/>
                <a:ext cx="1582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How much rope does Tonya need if she wants the garden 5 ft. wide and 8 ft. 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27280" y="3521160"/>
                <a:ext cx="1127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60520" y="4559400"/>
                <a:ext cx="112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191280" y="5600880"/>
                <a:ext cx="847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57360" y="5597640"/>
                <a:ext cx="231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97360" y="5578560"/>
                <a:ext cx="2938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1160" y="5553000"/>
                <a:ext cx="15825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How much rope does Tonya need if she makes the garden 10 ft. wide and 15 ft. 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3760" y="3565440"/>
                <a:ext cx="1378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379520" y="4587840"/>
                <a:ext cx="137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410600" y="5559480"/>
                <a:ext cx="84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050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5, 3 – 7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7, 3 – 8 #1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5/2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1T15:21:28Z</dcterms:modified>
  <cp:revision>68</cp:revision>
  <dc:subject/>
  <dc:title>Slide 1</dc:title>
</cp:coreProperties>
</file>